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F5F-9412-4864-A348-53C38505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622-39DD-4230-8719-4D9ADEAF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C16-F07B-41D6-85A1-7CB46E29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CC5-0F78-419C-9EE1-A5585BA3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06D0-F765-47CE-A92A-B8AF0172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53B5-3015-4703-B2A8-2AACF54B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963A-AA40-49F6-81CC-0E1B090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54AB-2EA8-4C60-A233-C51746EE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2FC7-039D-46C7-B35B-FEA4B497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6E7C-C9BC-4A5E-99B3-EBD3D741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6361-0546-471B-9186-9D8D9E07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C10-9B9B-4847-B171-B568BDC1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B231-C7F9-4F8A-A80E-EB07C81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740B-1FEA-473A-8918-204A7E55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2A6E-1C7E-4DC5-A767-94E90F52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2618-D469-4AC5-93B3-799AAF98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F09E-8D06-4298-9D7D-F8AB6679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476F-6184-4517-8EE9-0BBAA711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5A21-173D-4AE8-A303-37BC81DD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195F-954F-45D2-B001-CFD00ED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CD73-EF1E-42E9-B1FD-3DFDD27A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79B9-58CE-49BE-A587-0CE61FAD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7C5-928C-47E9-A429-1FAAAF00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A888-230B-4149-9D87-10D81162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DF262-78A6-4187-B21F-F4CF2EA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B899-029B-4631-9967-292DAC54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AB4F0-65CF-4427-8C99-75F825F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FC24-B9CE-4F98-A450-F0C294F3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993A-251F-4002-B164-547AE5E2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C951-0E50-40E6-BBD3-896C9705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EEAB1-D336-4A1D-B51A-BCE85DB2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7D04-A721-4E95-A8F8-2BF353FF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C6435-3496-40B8-A168-EFC1E47C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45A-44F5-4D0F-BC86-B473B59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C0A1-14B1-45CA-8D86-D7CB0D8E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91E8-BA08-4FEF-9B85-986A2E32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4740-9266-46DE-A66D-BD388F6F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A9D01-DDB6-4A78-8708-D590013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F77E-23C8-4A01-BB9F-AB9F36D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6C29-9BDE-4131-ADB8-6BDBE01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0E86-A296-4ABA-A147-8D9BA4EB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C084-CF7C-4936-A5D2-FF5D8092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25F58-D990-4B4A-B43A-5DA42A1A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0B43-6788-4F04-BFDF-AFFF437A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980-376A-44EC-B90E-9FF6AD3B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179C-FAC2-4A67-A15F-EA2A855B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8C6D-AAD5-4FA7-84A9-BD5040AF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9A02-0161-42FF-9F99-0B69E869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AEB2-5878-4329-8649-6BC93B4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3EF3-16A2-465D-AD2B-F0506510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7A21-22E1-4AAA-AFA6-8EC0AB85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E82A-1C87-4EFB-8203-C5E219F5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658DE-1A82-4F81-B8D1-DE1092C5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2A59-3F7E-4BDD-BCCA-3BC716E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3347-FE66-401A-9AE4-435A9A5C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CE4-578C-4986-A5C9-E45FD56B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A6DCB-B641-4FD5-902E-C88149F8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8C1-02EE-474F-A4B7-63D195A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2BE-AD3D-4E39-B153-EE45526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9F2-B49D-4129-8254-F3F21E7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3304-0174-46EC-AD23-CE3DC51016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910-FC4A-4B44-9F95-DDE668BC3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97C-78F7-4471-8499-0F672F88B4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A6C-04A3-4C23-8934-8FCFE7B5134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697-4D73-430B-844E-9D37F3A00DB0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25104;&#26524;&#37492;&#23450;&#31243;&#24207;&#12289;&#37492;&#23450;&#26448;&#26009;&#25991;&#26412;&#26684;&#24335;.do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1556;&#29577;&#33452;&#35838;&#39064;&#32467;&#39064;&#25253;&#21578;.doc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4320;&#39064;&#25253;&#21578;&#26684;&#24335;&#25991;&#26412;.doc" TargetMode="External"/><Relationship Id="rId2" Type="http://schemas.openxmlformats.org/officeDocument/2006/relationships/hyperlink" Target="file:///&#20013;&#26399;&#25253;&#21578;&#26684;&#24335;&#25991;&#26412;.doc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山东省职成教规划课题管理办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331640" y="5229360"/>
            <a:ext cx="14436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黑体"/>
                <a:ea typeface="黑体"/>
              </a:rPr>
              <a:t>会 议 结 题 方 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审读结题材料（专家，会前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陈述研究情况（研究者，会上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提问、点评、答辩（专家、研究者，会上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汇总评议（专家，会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51640" y="249228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020000" y="328464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47640" y="494172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会 议 鉴 定 课 题 的 确 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课题属省职成教科研规划重点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有重大创新和发现，结论新颖，有较高实用价值和推广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研究人员虽然做了许多具体工作，并经专家多次指导，但课题研究报告论述仍不充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专家对课题结题预审时提交的材料或报告中的数据、观点等存有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组主动申请参加答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会 议 鉴 定 现 场 答 辩 程 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鉴定组长宣布答辩规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题陈述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持人扼要介绍课题自立项以来的进展情况、研究取得的成果、碰到的问题、今后进一步研究的方向等。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—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题答辩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家就课题陈述及课题内容提出问题，课题组研究人员回答问题。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—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会 议 鉴 定 现 场 答 辩 程 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901"/>
              </a:spcBef>
              <a:buClr>
                <a:srgbClr val="0066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专家组形成鉴定意见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题分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级，对应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优秀、良好、合格、缓结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个等级，每个专家现场给予初步等级确定。答辩结束后，经讨论，确定最终鉴定结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>
            <a:hlinkClick r:id="rId1" action="ppaction://hlinksldjump"/>
          </p:cNvPr>
          <p:cNvSpPr/>
          <p:nvPr/>
        </p:nvSpPr>
        <p:spPr>
          <a:xfrm>
            <a:off x="7020000" y="5516640"/>
            <a:ext cx="792000" cy="28872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05" h="21600">
                <a:moveTo>
                  <a:pt x="0" y="0"/>
                </a:moveTo>
                <a:lnTo>
                  <a:pt x="59205" y="0"/>
                </a:lnTo>
                <a:lnTo>
                  <a:pt x="59205" y="21600"/>
                </a:lnTo>
                <a:lnTo>
                  <a:pt x="0" y="21600"/>
                </a:lnTo>
                <a:close/>
              </a:path>
              <a:path fill="lightenLess" w="59205" h="21600">
                <a:moveTo>
                  <a:pt x="0" y="0"/>
                </a:moveTo>
                <a:lnTo>
                  <a:pt x="59205" y="0"/>
                </a:lnTo>
                <a:lnTo>
                  <a:pt x="57805" y="1400"/>
                </a:lnTo>
                <a:lnTo>
                  <a:pt x="1400" y="1400"/>
                </a:lnTo>
                <a:close/>
              </a:path>
              <a:path fill="darken" w="59205" h="21600">
                <a:moveTo>
                  <a:pt x="59205" y="0"/>
                </a:moveTo>
                <a:lnTo>
                  <a:pt x="59205" y="21600"/>
                </a:lnTo>
                <a:lnTo>
                  <a:pt x="57805" y="20200"/>
                </a:lnTo>
                <a:lnTo>
                  <a:pt x="57805" y="1400"/>
                </a:lnTo>
                <a:close/>
              </a:path>
              <a:path fill="darkenLess" w="59205" h="21600">
                <a:moveTo>
                  <a:pt x="59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05" y="20200"/>
                </a:lnTo>
                <a:close/>
              </a:path>
              <a:path fill="lighten" w="59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返 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通 讯 结 题 鉴 定 方 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审读结题材料（专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汇总评议（专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（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）结 题 材 料 组 织</a:t>
            </a:r>
            <a:br>
              <a:rPr sz="40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关材料组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结题材料装订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题报告撰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273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结 题 报 告 撰 写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关信息                                                                                                       主持人：                                                                                                  参研人员：                                                                                                执笔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摘要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左右）                                                                                  关键词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-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文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字以上）：课题研究背景，课题研究理论依据，课题研究目标，课题研究的主要内容和方法，课题研究的步骤过程，课题研究成果，课题研究存在的问题以及设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1"/>
              </a:rPr>
              <a:t>举例：吴玉芬结题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结题成果的宣传与推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秀结题报告网上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展示位置：山东省职业教育与成人教育网之“科学研究”板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秀成果推介现场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课题研究全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50920" y="1341360"/>
            <a:ext cx="8713440" cy="5326560"/>
            <a:chOff x="250920" y="1341360"/>
            <a:chExt cx="8713440" cy="5326560"/>
          </a:xfrm>
        </p:grpSpPr>
        <p:cxnSp>
          <p:nvCxnSpPr>
            <p:cNvPr id="629" name="_s189446"/>
            <p:cNvCxnSpPr>
              <a:stCxn id="630" idx="0"/>
              <a:endCxn id="631" idx="3"/>
            </p:cNvCxnSpPr>
            <p:nvPr/>
          </p:nvCxnSpPr>
          <p:spPr>
            <a:xfrm flipV="1" rot="16200000">
              <a:off x="1670040" y="4571280"/>
              <a:ext cx="666360" cy="863280"/>
            </a:xfrm>
            <a:prstGeom prst="bentConnector3">
              <a:avLst>
                <a:gd name="adj1" fmla="val 2048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32" name="_s189447"/>
            <p:cNvCxnSpPr>
              <a:stCxn id="633" idx="0"/>
              <a:endCxn id="634" idx="3"/>
            </p:cNvCxnSpPr>
            <p:nvPr/>
          </p:nvCxnSpPr>
          <p:spPr>
            <a:xfrm flipV="1" rot="16200000">
              <a:off x="7621200" y="4571640"/>
              <a:ext cx="666360" cy="862920"/>
            </a:xfrm>
            <a:prstGeom prst="bentConnector3">
              <a:avLst>
                <a:gd name="adj1" fmla="val 2048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35" name="_s189448"/>
            <p:cNvCxnSpPr>
              <a:stCxn id="636" idx="0"/>
              <a:endCxn id="634" idx="3"/>
            </p:cNvCxnSpPr>
            <p:nvPr/>
          </p:nvCxnSpPr>
          <p:spPr>
            <a:xfrm flipH="1" flipV="1" rot="5400000">
              <a:off x="6877080" y="4689720"/>
              <a:ext cx="666360" cy="626760"/>
            </a:xfrm>
            <a:prstGeom prst="bentConnector3">
              <a:avLst>
                <a:gd name="adj1" fmla="val 2048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37" name="_s189449"/>
            <p:cNvCxnSpPr>
              <a:stCxn id="638" idx="0"/>
              <a:endCxn id="639" idx="3"/>
            </p:cNvCxnSpPr>
            <p:nvPr/>
          </p:nvCxnSpPr>
          <p:spPr>
            <a:xfrm flipV="1" rot="16200000">
              <a:off x="4644720" y="4572360"/>
              <a:ext cx="666360" cy="861480"/>
            </a:xfrm>
            <a:prstGeom prst="bentConnector3">
              <a:avLst>
                <a:gd name="adj1" fmla="val 2048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0" name="_s189450"/>
            <p:cNvCxnSpPr>
              <a:stCxn id="641" idx="0"/>
              <a:endCxn id="639" idx="3"/>
            </p:cNvCxnSpPr>
            <p:nvPr/>
          </p:nvCxnSpPr>
          <p:spPr>
            <a:xfrm flipH="1" flipV="1" rot="5400000">
              <a:off x="3901320" y="4689720"/>
              <a:ext cx="666360" cy="626760"/>
            </a:xfrm>
            <a:prstGeom prst="bentConnector3">
              <a:avLst>
                <a:gd name="adj1" fmla="val 2048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2" name="_s189451"/>
            <p:cNvCxnSpPr>
              <a:stCxn id="643" idx="0"/>
              <a:endCxn id="631" idx="3"/>
            </p:cNvCxnSpPr>
            <p:nvPr/>
          </p:nvCxnSpPr>
          <p:spPr>
            <a:xfrm flipH="1" flipV="1" rot="5400000">
              <a:off x="926280" y="4690080"/>
              <a:ext cx="666360" cy="626040"/>
            </a:xfrm>
            <a:prstGeom prst="bentConnector3">
              <a:avLst>
                <a:gd name="adj1" fmla="val 2048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4" name="_s189452"/>
            <p:cNvCxnSpPr>
              <a:stCxn id="634" idx="0"/>
              <a:endCxn id="645" idx="3"/>
            </p:cNvCxnSpPr>
            <p:nvPr/>
          </p:nvCxnSpPr>
          <p:spPr>
            <a:xfrm flipV="1" rot="16200000">
              <a:off x="5761080" y="1458360"/>
              <a:ext cx="666360" cy="3094200"/>
            </a:xfrm>
            <a:prstGeom prst="bentConnector3">
              <a:avLst>
                <a:gd name="adj1" fmla="val 2043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6" name="_s189453"/>
            <p:cNvCxnSpPr>
              <a:stCxn id="639" idx="0"/>
              <a:endCxn id="645" idx="3"/>
            </p:cNvCxnSpPr>
            <p:nvPr/>
          </p:nvCxnSpPr>
          <p:spPr>
            <a:xfrm flipV="1" rot="16200000">
              <a:off x="4273560" y="2945880"/>
              <a:ext cx="666360" cy="118800"/>
            </a:xfrm>
            <a:prstGeom prst="bentConnector3">
              <a:avLst>
                <a:gd name="adj1" fmla="val 2043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47" name="_s189454"/>
            <p:cNvCxnSpPr>
              <a:stCxn id="631" idx="0"/>
              <a:endCxn id="645" idx="3"/>
            </p:cNvCxnSpPr>
            <p:nvPr/>
          </p:nvCxnSpPr>
          <p:spPr>
            <a:xfrm flipH="1" flipV="1" rot="5400000">
              <a:off x="2785680" y="1576440"/>
              <a:ext cx="666360" cy="2858040"/>
            </a:xfrm>
            <a:prstGeom prst="bentConnector3">
              <a:avLst>
                <a:gd name="adj1" fmla="val 20432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45" name="_s189455"/>
            <p:cNvSpPr/>
            <p:nvPr/>
          </p:nvSpPr>
          <p:spPr>
            <a:xfrm>
              <a:off x="3969000" y="1341360"/>
              <a:ext cx="12758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cc00"/>
                  </a:solidFill>
                  <a:latin typeface="Arial"/>
                </a:rPr>
                <a:t>课题研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cc00"/>
                  </a:solidFill>
                  <a:latin typeface="Arial"/>
                </a:rPr>
                <a:t>生命周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_s189456"/>
            <p:cNvSpPr/>
            <p:nvPr/>
          </p:nvSpPr>
          <p:spPr>
            <a:xfrm>
              <a:off x="993600" y="3338640"/>
              <a:ext cx="12758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研究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89457"/>
            <p:cNvSpPr/>
            <p:nvPr/>
          </p:nvSpPr>
          <p:spPr>
            <a:xfrm>
              <a:off x="3969000" y="3338640"/>
              <a:ext cx="12758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研究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9458"/>
            <p:cNvSpPr/>
            <p:nvPr/>
          </p:nvSpPr>
          <p:spPr>
            <a:xfrm>
              <a:off x="6944760" y="3338640"/>
              <a:ext cx="12758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研究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89459"/>
            <p:cNvSpPr/>
            <p:nvPr/>
          </p:nvSpPr>
          <p:spPr>
            <a:xfrm>
              <a:off x="250920" y="5336280"/>
              <a:ext cx="12740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前期准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89460"/>
            <p:cNvSpPr/>
            <p:nvPr/>
          </p:nvSpPr>
          <p:spPr>
            <a:xfrm>
              <a:off x="3225960" y="5336280"/>
              <a:ext cx="127440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组织准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（计划阶段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89461"/>
            <p:cNvSpPr/>
            <p:nvPr/>
          </p:nvSpPr>
          <p:spPr>
            <a:xfrm>
              <a:off x="4713480" y="5336280"/>
              <a:ext cx="12740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实施研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（执行阶段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189462"/>
            <p:cNvSpPr/>
            <p:nvPr/>
          </p:nvSpPr>
          <p:spPr>
            <a:xfrm>
              <a:off x="6200280" y="5336280"/>
              <a:ext cx="12758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结题验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（结束阶段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_s189463"/>
            <p:cNvSpPr/>
            <p:nvPr/>
          </p:nvSpPr>
          <p:spPr>
            <a:xfrm>
              <a:off x="7688520" y="5336280"/>
              <a:ext cx="12758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推广应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189464"/>
            <p:cNvSpPr/>
            <p:nvPr/>
          </p:nvSpPr>
          <p:spPr>
            <a:xfrm>
              <a:off x="1737720" y="5336280"/>
              <a:ext cx="1275840" cy="1331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申报立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省职成教规划课题管理办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项申报与评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研究过程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题鉴定与验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优秀成果的宣传推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18760" y="333000"/>
            <a:ext cx="8156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立项申报与评审（一）</a:t>
            </a: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规划办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发布立项通知和课题指南（每年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     接受立项申请材料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组织立项评审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报立项结果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84360" y="386064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79640" y="472428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380360" y="472428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立项申报与评审（二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研究者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研读立项通知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填写立项申请材料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报送立项申请书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    参加立项评审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立项通报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372360" y="3141720"/>
            <a:ext cx="68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435640" y="400536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92360" y="479736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92360" y="566100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研究过程管理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开题培训会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与课题开题会（济南二职专、八职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提交开题报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立项课题务必在“十一”之前提交开题报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cc"/>
                </a:solidFill>
                <a:uFillTx/>
                <a:latin typeface="楷体_GB2312"/>
                <a:ea typeface="楷体_GB2312"/>
                <a:hlinkClick r:id="rId1"/>
              </a:rPr>
              <a:t>开题报告样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程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召开督查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组织提交中期报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立项课题务必在中期或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之前提交中期报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cc"/>
                </a:solidFill>
                <a:uFillTx/>
                <a:latin typeface="Arial"/>
                <a:ea typeface="楷体_GB2312"/>
                <a:hlinkClick r:id="rId2"/>
              </a:rPr>
              <a:t>中期报告样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结题鉴定与验收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题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题方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题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（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1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）结 题 程 序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题申请（研究者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交结题初审材料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份，研究者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审阅反馈初审意见（规划办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改结题材料（研究者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交正式结题材料（一式七份，研究者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专家进行结题鉴定（规划办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布结题情况（规划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64000" y="213372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80000" y="3573360"/>
            <a:ext cx="68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92360" y="429264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84360" y="501336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050920" y="573408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48360" y="2852640"/>
            <a:ext cx="68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（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2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）结 题 方 式</a:t>
            </a: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会议结题鉴定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通讯结题鉴定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5:12:48Z</dcterms:created>
  <dc:creator>微软用户</dc:creator>
  <dc:description/>
  <dc:language>en-US</dc:language>
  <cp:lastModifiedBy>微软用户</cp:lastModifiedBy>
  <dcterms:modified xsi:type="dcterms:W3CDTF">2011-08-11T01:28:25Z</dcterms:modified>
  <cp:revision>39</cp:revision>
  <dc:subject/>
  <dc:title>加强管理，促进全省职成教科研水平不断提高</dc:title>
</cp:coreProperties>
</file>